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476-D275-4CD2-8CDE-A27A4B50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DAD-19B2-4578-8B8F-A0A25619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095-31A9-40E9-815F-ABD1C65D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A8C-6971-4BF1-8A54-8DEAA773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880-5CFE-4557-A190-837F50D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B1A-1371-47A7-8200-329EFA7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B94-3228-46CD-9899-7E1077B1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AB5-78A8-4C5F-AF22-B2F3E82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BF8-B7F2-415F-8BE7-271DA865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38A-4B22-4F8E-B20D-2D59790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9E8-BD9B-4916-9172-478C9DB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1F4-8D68-466D-8B35-27A1CE1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AF65-3091-4728-8EED-2121D1413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ave 3"/>
          <p:cNvSpPr/>
          <p:nvPr/>
        </p:nvSpPr>
        <p:spPr>
          <a:xfrm>
            <a:off x="1371600" y="838080"/>
            <a:ext cx="5943600" cy="2590920"/>
          </a:xfrm>
          <a:custGeom>
            <a:avLst/>
            <a:gdLst>
              <a:gd name="textAreaLeft" fmla="*/ 0 w 5943600"/>
              <a:gd name="textAreaRight" fmla="*/ 5943960 w 5943600"/>
              <a:gd name="textAreaTop" fmla="*/ 647640 h 2590920"/>
              <a:gd name="textAreaBottom" fmla="*/ 194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ave 4"/>
          <p:cNvSpPr/>
          <p:nvPr/>
        </p:nvSpPr>
        <p:spPr>
          <a:xfrm>
            <a:off x="2438280" y="4038480"/>
            <a:ext cx="5867640" cy="1905120"/>
          </a:xfrm>
          <a:custGeom>
            <a:avLst/>
            <a:gdLst>
              <a:gd name="textAreaLeft" fmla="*/ 0 w 5867640"/>
              <a:gd name="textAreaRight" fmla="*/ 5868000 w 586764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 rot="313200">
            <a:off x="1523880" y="1211400"/>
            <a:ext cx="55548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urry Up"/>
              </a:rPr>
              <a:t>La  música  latina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urry Up"/>
              <a:ea typeface="Hurry Up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4403880"/>
            <a:ext cx="5562720" cy="12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21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1f497d">
                      <a:alpha val="50000"/>
                    </a:srgbClr>
                  </a:outerShdw>
                </a:effectLst>
                <a:latin typeface="Hurry Up"/>
              </a:rPr>
              <a:t>An introduction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1f497d">
                    <a:alpha val="50000"/>
                  </a:srgbClr>
                </a:outerShdw>
              </a:effectLst>
              <a:latin typeface="Hurry Up"/>
              <a:ea typeface="Hurry U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Typ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p Hop / Rap / Reggat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raditional – Mariachi, Salsa, Son, Bachata, Merengue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Major Them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Love an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olitics and Cultur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Featur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Word Or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Line Or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Purposed inaccu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Metaphor &amp; Sim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It reads like po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Interpreting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ranslate the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Look for the original word in the dictionary (Example: habla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habla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Now, make sense of the word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49:47Z</dcterms:created>
  <dc:creator>amy.lenord</dc:creator>
  <dc:description/>
  <cp:keywords/>
  <dc:language>en-US</dc:language>
  <cp:lastModifiedBy>amy.lenord</cp:lastModifiedBy>
  <dcterms:modified xsi:type="dcterms:W3CDTF">2010-08-27T15:10:38Z</dcterms:modified>
  <cp:revision>2</cp:revision>
  <dc:subject/>
  <dc:title>Slide 1</dc:title>
</cp:coreProperties>
</file>